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3270-3A72-4190-9347-278C105CC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ept of best fit line is difficult to grasp or appears too time consuming, the data in the first example could easily be simplified to create a perfect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examples of actual population data can be found using a simple online search.</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2F72-3471-489C-A38E-887A1949A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 components of the graph</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4360-6799-45EF-938E-3A0BE70DF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e concept of a best fit line or trend line when analyzing linear data.</a:t>
            </a: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B905-8046-40A6-9FE2-D5927E2C1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nd guide students through the questions.</a:t>
            </a: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A329-03B1-418F-878C-58DE3471E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students with the data table and small group, in-class assignment.</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1C77-14A6-42F9-852D-64E104AAB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DDD8B-0D9F-45E8-8B15-BAD48AF915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95F9038F-11CC-4126-B5B8-E8322D1129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5348BD-499D-46DC-AFD2-8CADD7E5F1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C8775-25E8-4628-B3FF-6C4C5C796C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AF2C9D-6473-42CA-B1B7-E288B23A1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EBFAD-778D-4E13-B583-AA6898FE7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4D52E-B05B-4CF8-A3B9-673A32956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D54F2-F129-4A84-8E5E-73B34C4D0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00A70-822B-47B5-8484-27D0626CBC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7D0832-4166-47CC-828F-C0BDD0CF0A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5FBDE-5161-412E-BB86-4912709530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29A6DC-21F9-415C-940B-15902B6A44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0C525550-D524-41F1-9DDE-A9F1FF74E83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62BFC6-1402-4C12-993E-8C272B30C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29335-A4E9-4C9A-BCD5-9E5D1BE254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2D4D6-BF98-43A3-89F6-5DA703CB13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6DA032-C014-4C1E-890F-38B5C78C26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56318-5D0D-40C0-A362-BE88C32AD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7A9B3-108A-4E03-91E6-F00DADBEDC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8EAF3E-38EC-44A7-91DE-E925527A1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7B1BD5-1528-4392-AD35-2499C0CE4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ACEDCB-0907-4155-AAA9-7C3018B742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283866-F481-44B5-A3C2-FD96FF609C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9E65A5D4-DDF9-4A48-BD36-69A5AF8AA7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1D5EB4-2D59-4508-967A-05AC648729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D9F307-2A66-4885-BF65-DA3100C389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76BF49-A591-4965-B5EB-2A076E3525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F99D40-C65A-4124-AB8E-5748226C7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63E34C-A49A-44BF-8AAC-DDF98C3DAE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C55FD9-3B15-4C4F-8221-1DF632DF4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9B183E-BCCC-4D3D-A933-2585C2D380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CD1144-3753-46D7-BE22-30A6F9735A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455940-D0DD-4DF8-AA3D-BBAD85D94A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AC9B8C-BAA6-48F5-A215-E06E8F3E1C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0960D6-3AFF-4C93-9A41-61B489A28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FD0099-85CA-4C10-8B81-1BFCA995F4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521926-56F0-4F76-9D19-42C065AB63E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34F413-454C-40BA-83E8-E2B8EE3272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4D98A7-5846-489E-A4D5-11FE52F249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8A6656-EABC-48B7-8D3D-F7A42A22FC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B9CC62-B6C2-4E28-AF1C-93FC4441F6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73E3B0-29B0-417C-9677-2C6AD1DA42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0F85ED-30E7-4121-8F59-55575F85E9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EE154B-A80B-4A3B-823C-9971BC4603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7694DE-420B-410D-AC7C-B94A6D5E49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99B4DD16-85FC-4407-89B0-F117E4931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2F42F2-4179-404C-84D5-EB0561304E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FD199B-BC97-4902-B3BB-66DFF31FD7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A7F3B0-8896-463A-940B-6AA09AEA32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A041D0-2365-4070-910A-CC0DBAC8B39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8459ECF-35FE-4140-ADFB-351FAE1191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2E72DAD-8FF4-488A-9D2D-0598367A7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EAC36E1D-0532-430B-8272-C026EC910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F56F496F-AD94-4B43-8532-9F3D7F1A9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CF80671E-E97B-4A4B-A28F-F0DC3B79F7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CB037E6D-8FAB-4C1A-8AB6-9C8F9D290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39F0C597-48A9-4333-AEF8-B67D3585D1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CF05A3B7-71CF-42EC-A472-6200F759E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ED85A3C6-4759-41EC-9F70-6F75F7951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0DE34F21-D74B-4FF7-9DDD-4BB9843CC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E6CD43D3-DB16-40E1-8E41-F47BF845E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D4A5EDF2-A667-4F41-9CE6-2ECFBE40F5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6FC0F-1D07-4D2A-8754-F210EBE73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CE7E1-18BD-4AC4-8077-EE04AA2BB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D3ED-9BAF-4246-BCA7-C71CAD289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E2FCB-2FA8-4BEB-BAAE-E6F06E768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20C37-D1FD-438A-B534-291A5496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2486863-2345-4DEF-B32F-DDE85E74DB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BF91F-D48D-44BC-A6F8-CCD2CF3EA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83D67-902A-44BB-8797-6FA519C74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419B1-49B2-48D1-A0AD-ACBA47127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F848C-1199-43B3-A665-E3909A69C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EFF31-7AE3-4696-8FF6-C68BFC48C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812CC-1B19-4EFC-9020-0706E480E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A8F99-7235-49F1-AF2F-7C66987D92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46F11-1B3D-4E54-BA93-665E0E457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EB29A-2B79-49A2-BA4A-2C5EFC5BFB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B18C6-DAB6-4A1D-9F77-F26771977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4EDCD3A6-F4CC-49D8-9556-D0557CFC6D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E37DE-216C-44AF-9C8A-730DA7D9E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64D45-1B6E-4947-B15C-8CAF970CA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DF8AF3-A475-4CB7-9D03-224E27AA9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D71E6-5AE3-47AF-8CAE-7E6520D91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A4FBB-3469-408B-9A9A-AFF54BDD0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130CA-7537-4B43-A8F7-C88EFE338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AF127-86E5-4B66-BD99-A403D92DC5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3BBD1-6338-47EF-A96F-E0F9EBC1A6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CF7DF-B198-48EB-B124-E1F8145C0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D6B010-3328-42E7-8377-ED97BED0A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A410A1C7-3DDC-4D66-BD1F-8D2A2B8E2D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44E5AC-6A01-49AD-9101-265ED4BB0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2EE61-AA64-4730-B7EE-A847A33F3F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A737E-ABAB-4D39-AB30-1A86AEEBB2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576F4-D399-4750-A44C-B6385FAB9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95E6FE-2D9B-4CDB-8812-F6D394159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A80E0-27F7-4AEF-8F72-14BB4C81A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44F608-542F-44F5-8ACE-E597EA1F7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B6F4F-7BA4-448F-A79B-7AD58B069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1125B-B50B-4B04-B3A7-8D55DE0D4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2E74EE-3863-4BE4-8648-599CC3254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688243E8-9E97-4FE5-BD5A-134C990680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2B11AC-239C-4D22-BEAE-3F65DCDC96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EF7294-237F-4E4C-8834-D56D6F44AF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071D4-A40E-46AD-820C-B8CB6345F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ABBF0-908C-49F1-B4FC-3BF86436F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8ACAC-E83B-4520-8587-F6E825BC1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C62A96-DC0F-478A-8E60-53A42908A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7B6237-3B21-41AE-BD9E-ED3B06781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15270-C851-4F17-972E-BCA60B60EE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89E6A-4F0D-451E-A0B9-B76FD819A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17F6DA-0587-4E25-A062-08E660BCD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5E7E44D-99EE-4C1D-89A8-646BFB66C5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FB3DF-B33B-435B-B028-9EBE5CA0B9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C91859-EC19-494E-89B9-92B6B14C41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46A9A-1FFE-4926-9954-6DA21AB1F7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5209E9-A8EC-4EDD-9545-AC9BD67FE0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631D2-5689-49AE-85F1-216A4A68B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1B358E-E6E2-4E37-9D34-044C1CE71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BE5B50-E559-4FA3-B25E-A9C5747E7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6A75D-E06E-44F8-8B58-2B2EEE631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FDDA2-851A-4D71-8699-F196A3243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4300B0-3422-4DC4-800C-8551342F9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EBC41E4-B292-436E-80BA-1A0C3DB774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A22F0-A0BF-4238-B427-15A57624C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90EB6-D8F4-4CBC-AAE7-8F1D8E39A9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1D841-82C8-471C-B36D-FAD3803B9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319474-F345-434A-BE27-97F5677BC1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E99B5D-CFAD-450E-B53C-7B41B9CCF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FF4931-13EE-4013-A0AF-741ED50B0D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76A72-D93A-4C5C-9312-F582792E1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1609A-2322-426F-856D-BE7939576A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7232AB-8D66-4AB5-A0FD-341D27539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86F6E-9F01-46E2-83DF-DE392EA77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FC8BEEE-4082-4BFD-896A-073F07CD91E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143BB-515E-44D1-89B1-D7878357B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37A7DB-9D53-47FB-A06E-31D070C3D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2EC1B-9B98-4A04-941A-16EC4F51E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A870F7-C64F-4275-B2A9-02953EF9B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4601AE-B2C7-4E35-B671-4E439C5BB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93D9F9-C8E1-44E7-BA3F-6617860190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7D4DF3-F335-4AAC-8F36-2321A3D8F7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C6FC88-4F84-4DD1-A4C8-9F6EF21F3D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EF3E10-908A-46F1-B30B-AE61A8B255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03B01-21DD-414D-BFAD-106C8DC2CE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86FF-D914-4A8B-9A5D-CC721B6106A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69EA-CCD3-48B7-9427-F194B70B51B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AEA0-A80D-4910-B940-D530ACE67A3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2108-E4B2-48CB-9770-8FBAC0624F9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1601-C6BB-4D19-9766-9EFCDD06C06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8B28-996E-405C-947E-BA178C6F18D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3B0B-3CD6-491F-9DA2-89A624573422}"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92C3-7741-4E3A-8523-E2B60BB4B5F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91DC-17A7-4910-98A7-338DFBAEC31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9F1D-6FF0-4FAB-A6EC-E55C9FD4DD5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AEBE-ACFC-468D-AE4B-DDD094319A9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C429-970B-48F9-9506-37C0C2B6F6F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pic>
        <p:nvPicPr>
          <p:cNvPr id="572" name="Picture 15" descr="linear data wolf.jpg"/>
          <p:cNvPicPr/>
          <p:nvPr/>
        </p:nvPicPr>
        <p:blipFill>
          <a:blip r:embed="rId1"/>
          <a:stretch/>
        </p:blipFill>
        <p:spPr>
          <a:xfrm>
            <a:off x="2343240" y="1905120"/>
            <a:ext cx="4610160" cy="27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points were plotted using the data table.</a:t>
            </a:r>
            <a:endParaRPr b="0" lang="en-US" sz="2800" spc="-1" strike="noStrike">
              <a:solidFill>
                <a:srgbClr val="4e3b30"/>
              </a:solidFill>
              <a:latin typeface="Verdana"/>
            </a:endParaRPr>
          </a:p>
        </p:txBody>
      </p:sp>
      <p:pic>
        <p:nvPicPr>
          <p:cNvPr id="575" name="Picture 17" descr="data wolf.tiff"/>
          <p:cNvPicPr/>
          <p:nvPr/>
        </p:nvPicPr>
        <p:blipFill>
          <a:blip r:embed="rId1"/>
          <a:stretch/>
        </p:blipFill>
        <p:spPr>
          <a:xfrm>
            <a:off x="3562200" y="2266920"/>
            <a:ext cx="217188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Graph compon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intercep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intercep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lope (rise or run) or rate of growth</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cept of a best fit line or trend line when analyzing linear dat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are scientists interested in knowing given this graph?</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Rate of population growth or decline, relationship between the limiting factor and population growth, point at which the population peaked, etc.</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swer the following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n the limiting factor is in abundance (or not so limiting), which direction does the line go?</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represented along the y-axi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What about the x-axis?</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 _____________ increases the population of _____________ _____________.</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algebraic formula for a line. Connect the concept of the linear equation and how it relates to these term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 or slop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 or y-intercep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ay or may not be present, but defi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algebraic formula for a line. Connect the concept of the linear equation and how it relates to these term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x-intercept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lope and how it is calculated by looking at rise/run</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Demonstrate how you would calculate slope for this example.</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out the formula for the best fit line in the example in the linear equation format and review.</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groups to plot data to form a line graph and analyze the meaning of the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ssignmen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reate a line graph using the data give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Label each axi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alculate the slope of the lin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the linear formula</a:t>
            </a:r>
            <a:br>
              <a:rPr sz="2400"/>
            </a:br>
            <a:r>
              <a:rPr b="0" lang="en-US" sz="2400" spc="-1" strike="noStrike">
                <a:solidFill>
                  <a:srgbClr val="4e3b30"/>
                </a:solidFill>
                <a:latin typeface="Verdana"/>
              </a:rPr>
              <a:t>representing this data se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a sentence or two</a:t>
            </a:r>
            <a:br>
              <a:rPr sz="2400"/>
            </a:br>
            <a:r>
              <a:rPr b="0" lang="en-US" sz="2400" spc="-1" strike="noStrike">
                <a:solidFill>
                  <a:srgbClr val="4e3b30"/>
                </a:solidFill>
                <a:latin typeface="Verdana"/>
              </a:rPr>
              <a:t>explaining the relationship between acres of land and prairie chicken population.</a:t>
            </a:r>
            <a:endParaRPr b="0" lang="en-US" sz="2400" spc="-1" strike="noStrike">
              <a:solidFill>
                <a:srgbClr val="4e3b30"/>
              </a:solidFill>
              <a:latin typeface="Verdana"/>
            </a:endParaRPr>
          </a:p>
        </p:txBody>
      </p:sp>
      <p:pic>
        <p:nvPicPr>
          <p:cNvPr id="590" name="Picture 19" descr="praire chicken data.tiff"/>
          <p:cNvPicPr/>
          <p:nvPr/>
        </p:nvPicPr>
        <p:blipFill>
          <a:blip r:embed="rId1"/>
          <a:srcRect l="4913" t="4190" r="10816" b="9948"/>
          <a:stretch/>
        </p:blipFill>
        <p:spPr>
          <a:xfrm>
            <a:off x="6019920" y="2685960"/>
            <a:ext cx="2728800" cy="173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mplete an example individually.</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peat the assignment as listed in the previous example independently using this sample set of data.</a:t>
            </a:r>
            <a:endParaRPr b="0" lang="en-US" sz="2800" spc="-1" strike="noStrike">
              <a:solidFill>
                <a:srgbClr val="4e3b30"/>
              </a:solidFill>
              <a:latin typeface="Verdana"/>
            </a:endParaRPr>
          </a:p>
        </p:txBody>
      </p:sp>
      <p:pic>
        <p:nvPicPr>
          <p:cNvPr id="593" name="Picture 20" descr="antelope data.tiff"/>
          <p:cNvPicPr/>
          <p:nvPr/>
        </p:nvPicPr>
        <p:blipFill>
          <a:blip r:embed="rId1"/>
          <a:srcRect l="3251" t="4958" r="3570" b="2249"/>
          <a:stretch/>
        </p:blipFill>
        <p:spPr>
          <a:xfrm>
            <a:off x="3125880" y="3657600"/>
            <a:ext cx="3044880" cy="218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Students can analyze factors that influence the credibility of informational 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nvironmental Sciences ES1.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alyze population Dynam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the carrying capacity of a sample ecosystem.</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A.4.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use graphs, tables, and equations to represent linear function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Linear equations are a fundamental component of any introductory Algebra class. Outside the doors of the math classroom, we might not throw the term “linear equation” around much, but we see many examples of everyday things that operate based on a linear equation model.</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cheat sheet will help refresh your memo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y = mx + b</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y = Height/distance above or below the horizontal zero line at any given spot along the lin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 = Slope of the line, which tells us how steep the line is and is typically written in the fraction form rise/ru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x = Distance to the right or left of the vertical zero lin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b = Spot where the line crosses the y axis (vertical o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r additional assistance, search “linear equations,” and you will find pictures, notes, and videos to help you brush up.</a:t>
            </a:r>
            <a:endParaRPr b="0" lang="en-US" sz="2800" spc="-1" strike="noStrike">
              <a:solidFill>
                <a:srgbClr val="4e3b30"/>
              </a:solidFill>
              <a:latin typeface="Verdana"/>
            </a:endParaRPr>
          </a:p>
        </p:txBody>
      </p:sp>
      <p:pic>
        <p:nvPicPr>
          <p:cNvPr id="566" name="Picture 3" descr=""/>
          <p:cNvPicPr/>
          <p:nvPr/>
        </p:nvPicPr>
        <p:blipFill>
          <a:blip r:embed="rId1"/>
          <a:srcRect l="0" t="0" r="21348" b="0"/>
          <a:stretch/>
        </p:blipFill>
        <p:spPr>
          <a:xfrm>
            <a:off x="3086280" y="3162240"/>
            <a:ext cx="3124080" cy="27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fine and discuss the concept of an ecosystem’s carrying capacit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limiting factors that can influence population growth.</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arrying capacity is not ultimately a number, but instead a relationship between population size and limiting factors affecting a species population growth.</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line graph is an excellent way to visually analyze how a limiting factor can affect an ecosystem’s carrying capacity for a given speci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0" name=""/>
          <p:cNvSpPr txBox="1"/>
          <p:nvPr/>
        </p:nvSpPr>
        <p:spPr>
          <a:xfrm>
            <a:off x="304920" y="1554120"/>
            <a:ext cx="8686800" cy="4525920"/>
          </a:xfrm>
          <a:prstGeom prst="rect">
            <a:avLst/>
          </a:prstGeom>
          <a:noFill/>
          <a:ln w="0">
            <a:noFill/>
          </a:ln>
        </p:spPr>
        <p:txBody>
          <a:bodyPr anchor="t">
            <a:normAutofit fontScale="95000"/>
          </a:bodyPr>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graph demonstrates an example of a carrying capacity graph.</a:t>
            </a:r>
            <a:endParaRPr b="0" lang="en-US" sz="2800" spc="-1" strike="noStrike">
              <a:solidFill>
                <a:srgbClr val="4e3b30"/>
              </a:solidFill>
              <a:latin typeface="Verdana"/>
            </a:endParaRPr>
          </a:p>
          <a:p>
            <a:pPr lvl="1" marL="705600" indent="-271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t was produced from a table of data measuring how moose population influences the carrying capacity of wolves on Isle Royale (the largest island in Lake Superior)</a:t>
            </a:r>
            <a:endParaRPr b="0" lang="en-US" sz="2400" spc="-1" strike="noStrike">
              <a:solidFill>
                <a:srgbClr val="4e3b30"/>
              </a:solidFill>
              <a:latin typeface="Verdana"/>
            </a:endParaRPr>
          </a:p>
          <a:p>
            <a:pPr lvl="1" marL="705600" indent="-271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imiting factor here is food.</a:t>
            </a:r>
            <a:endParaRPr b="0" lang="en-US" sz="2400" spc="-1" strike="noStrike">
              <a:solidFill>
                <a:srgbClr val="4e3b30"/>
              </a:solidFill>
              <a:latin typeface="Verdana"/>
            </a:endParaRPr>
          </a:p>
          <a:p>
            <a:pPr lvl="2" marL="1085760" indent="-21708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oose are a food source for wolves.</a:t>
            </a:r>
            <a:endParaRPr b="0" lang="en-US" sz="2000" spc="-1" strike="noStrike">
              <a:solidFill>
                <a:srgbClr val="4e3b30"/>
              </a:solidFill>
              <a:latin typeface="Verdana"/>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a:p>
            <a:pPr marL="325800" indent="-3258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Verdana"/>
              </a:rPr>
              <a:t>Simplified from </a:t>
            </a:r>
            <a:r>
              <a:rPr b="0" i="1" lang="en-US" sz="1400" spc="-1" strike="noStrike">
                <a:solidFill>
                  <a:srgbClr val="4e3b30"/>
                </a:solidFill>
                <a:latin typeface="Verdana"/>
              </a:rPr>
              <a:t>Canyon Crest Media Center’s </a:t>
            </a:r>
            <a:r>
              <a:rPr b="0" lang="en-US" sz="1400" spc="-1" strike="noStrike">
                <a:solidFill>
                  <a:srgbClr val="4e3b30"/>
                </a:solidFill>
                <a:latin typeface="Verdana"/>
              </a:rPr>
              <a:t>located at: http://teachers.sduhsd.k12.ca.us/cschildhouse/APBio08-09/3_Ecology/PopEcolGraphs.pdf.</a:t>
            </a:r>
            <a:endParaRPr b="0" lang="en-US" sz="1400" spc="-1" strike="noStrike">
              <a:solidFill>
                <a:srgbClr val="4e3b30"/>
              </a:solidFill>
              <a:latin typeface="Verdana"/>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6T03:23:10Z</dcterms:modified>
  <cp:revision>26</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78287360</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